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A1F-5D95-4C2E-A41F-D7297E847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F1F-A1A1-4402-9591-1B442FD7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333-AC6C-4304-B93F-A7B75718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6DD-AFC7-4CBE-8538-4F13A387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660-5991-454C-BBAA-ACE0A581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D99-B169-45F0-B9F6-A0F35EC2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121-CB7C-4D78-8D3C-AD995310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152-7ABA-49BC-B333-1FEBD5E9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046-263E-417C-A0B5-557616C1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EA5-FC40-4B25-A2EC-4498252A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861-79C5-473C-BFDA-6A014104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2BD-8111-40C2-B4D9-F215C9D0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C9B0-7AC5-4DC8-B2E8-2B7754E2DAF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b/Maya.sv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6/Babylonian_numeral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73320" y="907920"/>
            <a:ext cx="3443400" cy="4969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del compu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9840" y="141300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 per sedici al quadrato = 2304 + quattro volte sedici = 64 In notazione binaria 9 = 1001;  4 = 0100; 0 = 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neando 940 = 10010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4149720"/>
            <a:ext cx="684072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 sed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zione posizionale in b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ed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fre 0123456789ABCDE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42920" y="22939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ssocia ad ogni numero intero 0,1,2,…n,…. un numero F(n) secondo la seguente logic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(0)=0, F(1)=1, innesco della sequ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(n)= F(n-1)+F(n-2)   per ogni altro 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           0   1   2   3   4   5   6    7    8    9    10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(n)      0   1   1   2   3   5   8   13  21   34   55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quenza di Fibonacc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rietà magiche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19844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(n-1)F(n+1)= F(n)F(n)+(-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balmente presa ogni terna di numeri consecutivi della sequenza il prodotto degli estremi è pari al quadrato dell’intermedio diminuito o aumentato di una unità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 esemp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n=4    5*2= 3*3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n=5    8*3= 5*5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 ambo i membri della P1 per F(n-1)F(n) si h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(n+1)/F(n)= F(n)/F(n-1)+( (-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 F(n-1)F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roprietà magich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692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l rapporto F(n+1)/F(n)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verge a una costa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Questa costante era nota fin dall’antichità come rapporto aureo o numero aureo o numero di Fidia </a:t>
            </a: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he lo utilizzò sembra come base per la costruzione del PARTEN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l numero di Fidia deve soddisfare le seguenti relazion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F(n+1)/F(n)= F(n)/F(n-1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(n+1)=F(n)+F(n-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F(n)+F(n-1))/ F(n)=1+(1/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=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+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-1=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cui soluzione positiva 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=(1+(5)</a:t>
            </a:r>
            <a:r>
              <a:rPr b="0" lang="it-IT" sz="24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/2  circa 1,6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33360"/>
            <a:ext cx="8642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+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circa 2,61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1/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circa 0,61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SEQUENZA DI GIBONACCI E IL NUMERO AU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finiamo sequenza di Gibonacci una sequenza G(n) che differisce da quella di Fibonacci solo per l’innesco dato da numeri a,b tali che 0&lt;b&lt;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(0)=b,  G(1)=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(n)= G(n-1)+G(n-2)   per ogni altro 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           0     1      2       3         4          5          6           7          8      9       10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(n)      0     1      1       2         3          5          8          13       21     34      55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(n)      b     a    b+a   b+2a  2b+3a  3b+5a  5b+8a  8b+13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 generale G(n)= bF(n-1)+aF(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Una sequenza di Gibonacci è dunque una combinazione di elementi contigui della sequenza di Fibonacci con coefficienti corrispondenti all’innesc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Vogliamo scegliere l’innesco in modo tale che a/b=(a+b)/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1 a/b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2 G(n)/G(n-1)=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92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86184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B1. Ad ogni scelta di b&gt;0 corrisponde una sequenza di Gibonacci (con a=b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B2  La sequenza di Fibonacci è un caso degenere della sequenza di Gibonacci con b=0 ed a=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B3  Altre particolari sequenze di Gibonacci G’ e G” e G’’’ vengono rispettivamente dalla scelta b=1,a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+a 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oppure b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,a=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….oppure b=(1/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,a=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            0      1        2        3         4          5          6           7     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’(n)       1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  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”(n)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3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’’’(n)  (1/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    1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 sequenza G’ delle potenze del numero aureo a partire dall’esponente zero è dunque la sequenza di Gibonacci corrispondente alla scelta dell’innesco b=1. La sequenza G” è la sequenza delle potenze del numero aureo a partire dall’esponente 1 (innesco b=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. La G’’’ è la sequenza delle potenze del numero aureo a partire dall’esponente -1 (innesco b=(1/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)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92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47628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grande matematico rinascimentale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uca Pacio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(stretto collaboratore di Leonardo da Vinci e Piero della Francesca) divulgatore verso la fine del XV secolo della tecnica della partita doppia, ribattezzò il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apporto aure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dandogli il nome di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divina proporzio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icesi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rettangolo aure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un rettangolo i cui lati stanno nella proporzione aurea. Lato corto b, lato lungo a=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b e dunque area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 particolare per b=(1/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), 1,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si hanno aree (1/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),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iù in generale quando b corrisponde ad una potenza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l’area del rettangolo aureo è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2n+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Una costruzione magica è quella che partendo da un rettangolo aureo costruisce una sequenza di rettangoli aurei di dimensione sempre più piccola. Partiamo da un rettangolo aureo di lati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+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struiamo a partire dal lato minore il quadrato corrispondente e togliamolo dal rettangolo aureo. Ci rimane un rettangolo che ha un lato sempre di misura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 pari al lato corto originario e l’altro dato dalla differenza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+1-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-1)=   </a:t>
            </a:r>
            <a:r>
              <a:rPr b="0" i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692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76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62064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5838840" cy="5079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33"/>
                </a:solidFill>
                <a:latin typeface="Arial"/>
              </a:rPr>
              <a:t>Luca Paciol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692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476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FakeRealLogSprial.svg"/>
          <p:cNvPicPr/>
          <p:nvPr/>
        </p:nvPicPr>
        <p:blipFill>
          <a:blip r:embed="rId1"/>
          <a:stretch/>
        </p:blipFill>
        <p:spPr>
          <a:xfrm>
            <a:off x="2401920" y="1844640"/>
            <a:ext cx="4475160" cy="3022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35280" y="62064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L’occhio di Dio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L’occhio di Dio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2920" y="1628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9844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692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476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62064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56000" y="1682640"/>
            <a:ext cx="4176720" cy="383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4292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ntagono aure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2840" y="981000"/>
            <a:ext cx="688824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7280" y="3284640"/>
            <a:ext cx="691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.3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MMCCCLXVI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844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 D C L X V 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3284640"/>
            <a:ext cx="691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MCCCLXVI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roma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ile:May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1773360"/>
            <a:ext cx="3616200" cy="4170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ma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mai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ma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349360"/>
            <a:ext cx="784872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i per trecentosessanta = duemilacentosessa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eci per venti = duec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●●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to = tre più cin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babilones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" descr="File:Babylonian numera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682640"/>
            <a:ext cx="669600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babilones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50733" t="65758" r="40400" b="29320"/>
          <a:stretch/>
        </p:blipFill>
        <p:spPr>
          <a:xfrm>
            <a:off x="684360" y="2565360"/>
            <a:ext cx="1800000" cy="749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42611" t="61810" r="49271" b="33273"/>
          <a:stretch/>
        </p:blipFill>
        <p:spPr>
          <a:xfrm>
            <a:off x="2771640" y="2565360"/>
            <a:ext cx="1513080" cy="687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3716280"/>
            <a:ext cx="82803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ntanove per sessan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duemilatrecentoquara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otto per u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arabi (indiani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2781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per mille + tre per cento + sei per dieci + otto per u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3860640"/>
            <a:ext cx="684036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introduce anche lo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zione posizionale in b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ec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Numeri del compu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3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101000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o per due alla undici = 2048 + uno per due alla otto = 256 + uno per due alla sesta = 6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4076640"/>
            <a:ext cx="684072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 d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zione posizionale in bas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ifre 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56:47Z</dcterms:created>
  <dc:creator>User</dc:creator>
  <dc:description/>
  <dc:language>en-US</dc:language>
  <cp:lastModifiedBy>Utente  principale</cp:lastModifiedBy>
  <dcterms:modified xsi:type="dcterms:W3CDTF">2011-02-17T09:31:54Z</dcterms:modified>
  <cp:revision>13</cp:revision>
  <dc:subject/>
  <dc:title>Diapositiva 1</dc:title>
</cp:coreProperties>
</file>