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A10-F5EC-4382-8055-C7806E56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545-ACF3-46B4-A746-2C14D623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581-1CA4-4EF2-BACB-A03DDF35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996-0477-41FA-A29B-C072F35D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2EA-1958-4313-AE16-64022E2C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CA5-5377-487D-92AA-CF192120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39E-ADB6-44C2-A657-6CF2591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305-8FFF-4E60-B56E-F8D8594D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DBC-9386-4A41-81D4-9154F88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43E-C272-4DEB-9614-784619B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920-13DD-4059-B23E-B14DD0C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14A-9C67-44F7-BDCA-201BB78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9135-AB29-4CA1-9163-1D928807070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Maya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6/Babylonian_numeral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73320" y="907920"/>
            <a:ext cx="3443400" cy="4969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del compu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9840" y="1413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 per sedici al quadrato = 2304 + quattro volte sedici = 64 In notazione binaria 9 = 1001;  4 = 0100; 0 = 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neando 940 = 10010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4149720"/>
            <a:ext cx="68407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sed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zione posizionale in b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d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fre 0123456789ABCD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22939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socia ad ogni numero intero 0,1,2,…n,…. un numero F(n) secondo la seguente log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0)=0, F(1)=1, innesco della sequ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n)= F(n-1)+F(n-2)   per ogni altro 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           0   1   2   3   4   5   6    7    8    9    10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n)      0   1   1   2   3   5   8   13  21   34   55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quenza di Fibonac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rietà magiche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19844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(n-1)F(n+1)= F(n)F(n)+(-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almente presa ogni terna di numeri consecutivi della sequenza il prodotto degli estremi è pari al quadrato dell’intermedio diminuito o aumentato di una unità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 esemp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n=4    5*2= 3*3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n=5    8*3= 5*5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 ambo i membri della P1 per F(n-1)F(n) si h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(n+1)/F(n)= F(n)/F(n-1)+( (-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 F(n-1)F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rietà magich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92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rapporto F(n+1)/F(n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verge a una costa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Questa costante era nota fin dall’antichità come rapporto aureo o numero aureo o numero di Fidia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e lo utilizzò sembra come base per la costruzione del PARTEN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numero di Fidia deve soddisfare le seguenti relazio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F(n+1)/F(n)= F(n)/F(n-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n+1)=F(n)+F(n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F(n)+F(n-1))/ F(n)=1+(1/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-1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cui soluzione positiva 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(1+(5)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/2  circa 1,6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33360"/>
            <a:ext cx="8642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circa 2,61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circa 0,61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SEQUENZA DI GIBONACCI E IL NUMERO AU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finiamo sequenza di Gibonacci una sequenza G(n) che differisce da quella di Fibonacci solo per l’innesco dato da numeri a,b tali che 0&lt;b&lt;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(0)=b,  G(1)=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(n)= G(n-1)+G(n-2)   per ogni altro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           0     1      2       3         4          5          6           7          8      9       10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(n)      0     1      1       2         3          5          8          13       21     34      55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(n)      b     a    b+a   b+2a  2b+3a  3b+5a  5b+8a  8b+13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 generale G(n)= bF(n-1)+aF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Una sequenza di Gibonacci è dunque una combinazione di elementi contigui della sequenza di Fibonacci con coefficienti corrispondenti all’innes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ogliamo scegliere l’innesco in modo tale che a/b=(a+b)/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1 a/b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2 G(n)/G(n-1)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86184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B1. Ad ogni scelta di b&gt;0 corrisponde una sequenza di Gibonacci (con a=b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B2  La sequenza di Fibonacci è un caso degenere della sequenza di Gibonacci con b=0 ed a=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B3  Altre particolari sequenze di Gibonacci G’ e G” e G’’’ vengono rispettivamente dalla scelta b=1,a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+a 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oppure b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a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….oppure b=(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,a=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            0      1        2        3         4          5          6           7     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’(n)       1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”(n)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3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’’’(n)  (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1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sequenza G’ delle potenze del numero aureo a partire dall’esponente zero è dunque la sequenza di Gibonacci corrispondente alla scelta dell’innesco b=1. La sequenza G” è la sequenza delle potenze del numero aureo a partire dall’esponente 1 (innesco b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. La G’’’ è la sequenza delle potenze del numero aureo a partire dall’esponente -1 (innesco b=(1/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7628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grande matematico rinascimental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uca Pacio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stretto collaboratore di Leonardo da Vinci e Piero della Francesca) divulgatore verso la fine del XV secolo della tecnica della partita doppia, ribattezzò il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apporto aure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andogli il nome d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vina propor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ces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ttangolo aure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un rettangolo i cui lati stanno nella proporzione aurea. Lato corto b, lato lungo a=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b e dunque area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particolare per b=(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), 1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si hanno aree (1/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)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iù in generale quando b corrisponde ad una potenza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l’area del rettangolo aureo è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n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Una costruzione magica è quella che partendo da un rettangolo aureo costruisce una sequenza di rettangoli aurei di dimensione sempre più piccola. Partiamo da un rettangolo aureo di lati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+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struiamo a partire dal lato minore il quadrato corrispondente e togliamolo dal rettangolo aureo. Ci rimane un rettangolo che ha un lato sempre di misura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 pari al lato corto originario e l’altro dato dalla differenza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+1-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-1)=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838840" cy="507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33"/>
                </a:solidFill>
                <a:latin typeface="Arial"/>
              </a:rPr>
              <a:t>Luca Pacio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FakeRealLogSprial.svg"/>
          <p:cNvPicPr/>
          <p:nvPr/>
        </p:nvPicPr>
        <p:blipFill>
          <a:blip r:embed="rId1"/>
          <a:stretch/>
        </p:blipFill>
        <p:spPr>
          <a:xfrm>
            <a:off x="2401920" y="1844640"/>
            <a:ext cx="4475160" cy="3022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L’occhio di Dio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L’occhio di Dio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68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42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ntagono aure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2840" y="981000"/>
            <a:ext cx="68882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3284640"/>
            <a:ext cx="691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.3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MCCCLXVI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84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 D C L X V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3284640"/>
            <a:ext cx="691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MCCCLXVI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rom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ile:May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773360"/>
            <a:ext cx="3616200" cy="417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ma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ma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ma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349360"/>
            <a:ext cx="784872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i per trecentosessanta = duemilacentosessa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eci per venti = duec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●●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to = tre più cin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babilones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File:Babylonian numera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682640"/>
            <a:ext cx="66960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babilones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50733" t="65758" r="40400" b="29320"/>
          <a:stretch/>
        </p:blipFill>
        <p:spPr>
          <a:xfrm>
            <a:off x="684360" y="2565360"/>
            <a:ext cx="1800000" cy="749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42611" t="61810" r="49271" b="33273"/>
          <a:stretch/>
        </p:blipFill>
        <p:spPr>
          <a:xfrm>
            <a:off x="2771640" y="2565360"/>
            <a:ext cx="1513080" cy="68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3716280"/>
            <a:ext cx="8280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tanove per sessan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duemilatrecentoquara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otto per u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arabi (indiani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2781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per mille + tre per cento + sei per dieci + otto per u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860640"/>
            <a:ext cx="684036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introduce anche lo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zione posizionale in b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e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del compu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10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 per due alla undici = 2048 + uno per due alla otto = 256 + uno per due alla sesta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4076640"/>
            <a:ext cx="68407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d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zione posizionale in b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fre 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56:47Z</dcterms:created>
  <dc:creator>User</dc:creator>
  <dc:description/>
  <dc:language>en-US</dc:language>
  <cp:lastModifiedBy>Utente  principale</cp:lastModifiedBy>
  <dcterms:modified xsi:type="dcterms:W3CDTF">2011-02-17T09:31:54Z</dcterms:modified>
  <cp:revision>13</cp:revision>
  <dc:subject/>
  <dc:title>Diapositiva 1</dc:title>
</cp:coreProperties>
</file>